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138B-7803-4B2F-B27A-46127E777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oduced 120 mL of urine a minut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your bladder’s stretch receptors signal to your brain when there is 200mL of urine;  can hold up to 600-8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tic gradient created by glucose, amino acids moves water back to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acts on the upper part of the distal tubule and collecting duct, and makes them more permeable to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al tubule reabsorbs 85% of water, and ADH regulates how much of the 15% is re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in is released by specialized cells in the juxtaglomerular apparatus (detect low blood press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:  A -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- ur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- bla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- ureth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odel in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structure:  co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- renal artery (to afferent arteri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- glomerulus (to efferent arteri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-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- proximal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- loop of Henle (descending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- loop of Henle (ascending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- peritubular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- distal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collecting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, NaCl, H+ ions, amino acid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ED5-7B6B-417E-941D-2B63D3BD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FE2-FEA0-4591-908B-5D6EE514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324-4177-4EA2-85BD-79B30041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20E-AEAB-48CE-8B46-E3CD5BE5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A3A-BC1D-4046-8D7D-A5BF0735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A5A-0596-4DE3-8445-8890C2A9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914-CFD1-4457-AFC6-126E03E5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86C-9F06-44E1-9A61-8E057C32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FE7-FB59-4AD5-BBFB-444E8321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32C-B6EB-4D7F-8779-C90FFC82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ED0-7E9A-4041-B600-3BF5141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28F-1709-4CDC-B046-1F4C5158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A78-725B-4422-ACE6-D8DDE0C70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ologymad.com/resources/kidney.swf" TargetMode="External"/><Relationship Id="rId2" Type="http://schemas.openxmlformats.org/officeDocument/2006/relationships/hyperlink" Target="http://davisplus.fadavis.com/scanlon6e/Animations/animations.cfm?exercise=NephronFiltration&amp;title=Nephron%20Filtration" TargetMode="External"/><Relationship Id="rId3" Type="http://schemas.openxmlformats.org/officeDocument/2006/relationships/hyperlink" Target="http://bcs.whfreeman.com/thelifewire/content/chp51/51020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quizlet.com/1644286/homeostasis-terms-flash-cards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Urine &amp; Water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, 7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9mL of every 120mL of glomerular filtrate is reabsorbed (phe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ain substances reabsorb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(pass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glucose (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amino acids (active),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harge attraction)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-containing wastes (such as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urea, uric acid),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, an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are secreted in the distal tub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imation on urine formation with no nar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idneypatientguide.org.uk/site/HKWanim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teractive animation has a nice feature where you can track the movement of various substa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ogymad.com/resources/kidney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ed animation on urine 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avisplus.fadavis.com/scanlon6e/Animations/animations.cfm?exercise=NephronFiltration&amp;title=Nephron%20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ed animation of structure &amp; function;  quite detai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cs.whfreeman.com/thelifewire/content/chp51/510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6 - Water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alance</a:t>
            </a:r>
            <a:br>
              <a:rPr sz="44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Image on next slide from: http://knight.noble-hs.sad60.k12.me.us/content/exploringLife/text/chapter32/concept32.2.htm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balance (i.e. amount of water in the blood) is regulated by the 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morecep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ct changes in blood solut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of ADH (anti-diuretic hormone) increases water reabsor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44600" y="609480"/>
            <a:ext cx="4653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Pressur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ressure receptors in the juxtaglomerular apparatus relea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activates angiotensin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ioten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adrenal glands to release ald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d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hormone that acts on nephrons to increase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bsorption in the distal tubule and collecting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colorado.edu/intphys/Class/IPHY3430-200/017kidneys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14480" y="1219320"/>
            <a:ext cx="5315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ular respiration produces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wast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solved in the blood become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rbonic ac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ic acid dissociates into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cidic) and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s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3765600"/>
            <a:ext cx="777240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, some 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0960" y="19810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tubular capillaries actively transpor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diffuse back into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combine with phosphate ions or ammonia and are removed by the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in Slides #3,4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retory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faculty.ccri.edu/kamontgomery/anatomy%20lab_13%20urogenital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dne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renarode.com/anatomy/openlab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hron (colou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ovies-ciarancolegage.blogspot.com/2011/03/kidney-diagram-labeled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hron (unlabell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kenpitts.net/hbio/46skel_musc_integ_systems/ch46_sched_08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12880" y="609480"/>
            <a:ext cx="3918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14720" y="1981080"/>
            <a:ext cx="291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86120" y="609480"/>
            <a:ext cx="337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is web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1644286/homeostasis-term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et of Homeostasis flash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urine form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e Formation</a:t>
            </a:r>
            <a:br>
              <a:rPr sz="44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Image on previous slide from:  http://www.mountainside-medical.com/products/Urine-Specimen-Cup,-Sterile.htm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merulus high pressure: 65mm 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dissolved molecules can move through the walls of the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0mL of blood flows through the kidneys each minute;  120mL is fil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1:17:53Z</dcterms:created>
  <dc:creator>rubina khan</dc:creator>
  <dc:description/>
  <dc:language>en-US</dc:language>
  <cp:lastModifiedBy>rubina khan</cp:lastModifiedBy>
  <dcterms:modified xsi:type="dcterms:W3CDTF">2011-12-08T10:15:52Z</dcterms:modified>
  <cp:revision>129</cp:revision>
  <dc:subject/>
  <dc:title>Formation of Urine</dc:title>
</cp:coreProperties>
</file>